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ut/Schleimha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1560" y="54936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o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3" idx="3"/>
            <a:endCxn id="16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3"/>
            <a:endCxn id="17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4760" y="549360"/>
            <a:ext cx="70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equestr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3" idx="3"/>
            <a:endCxn id="17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8" idx="3"/>
            <a:endCxn id="18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ato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87120" y="549360"/>
            <a:ext cx="44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ato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3" idx="3"/>
            <a:endCxn id="18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7" name=""/>
          <p:cNvCxnSpPr>
            <a:stCxn id="183" idx="3"/>
            <a:endCxn id="18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3"/>
            <a:endCxn id="19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83960" y="549360"/>
            <a:ext cx="71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om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83960" y="549360"/>
            <a:ext cx="71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atom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0" name=""/>
          <p:cNvCxnSpPr>
            <a:endCxn id="19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3960" y="549360"/>
            <a:ext cx="71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atom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2" idx="3"/>
            <a:endCxn id="20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7" name=""/>
          <p:cNvCxnSpPr>
            <a:endCxn id="20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31400" y="549360"/>
            <a:ext cx="73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atom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9" idx="3"/>
            <a:endCxn id="21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0320" y="549360"/>
            <a:ext cx="76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ämatome &gt; 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ämostase &gt; Mangel an Gerinnungsfaktoren &gt; Bildung ↓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tech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3960" y="54936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utung in Haut/Schleimha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etech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5200" y="54936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lutung in Haut/Schleimhaut &gt; Hämatome &gt; 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ämostase &gt; Mangel an Gerinnungsfaktoren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9" idx="3"/>
            <a:endCxn id="2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3"/>
            <a:endCxn id="11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3" name=""/>
          <p:cNvCxnSpPr>
            <a:stCxn id="110" idx="3"/>
            <a:endCxn id="11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0" idx="3"/>
            <a:endCxn id="11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5" idx="3"/>
            <a:endCxn id="12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5" idx="3"/>
            <a:endCxn id="12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5" idx="3"/>
            <a:endCxn id="130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3" name=""/>
          <p:cNvCxnSpPr>
            <a:stCxn id="125" idx="3"/>
            <a:endCxn id="131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6" idx="3"/>
            <a:endCxn id="13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1" name=""/>
          <p:cNvCxnSpPr>
            <a:endCxn id="13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4936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orwiegend 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3" idx="3"/>
            <a:endCxn id="14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640" y="639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-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3"/>
            <a:endCxn id="15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3"/>
            <a:endCxn id="157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8" name=""/>
          <p:cNvCxnSpPr>
            <a:stCxn id="155" idx="3"/>
            <a:endCxn id="159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83960" y="54936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Haut/Schleimha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techi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2:59:57Z</dcterms:modified>
  <cp:revision>337</cp:revision>
  <dc:subject/>
  <dc:title>Vorstellung einer Neuheit</dc:title>
</cp:coreProperties>
</file>